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type.wav" ContentType="audio/x-wav"/>
  <Override PartName="/ppt/media/image15.jpeg" ContentType="image/jpe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39A6-1F43-4D9D-BE27-9AFDCC7489F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915F-DA90-4E16-ADD9-075A1495A815}" type="slidenum"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艰难：发音靠触摸喉咙的颤动和嘴的运动，发一个音就需要几小时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7318-0EA6-461A-932C-9C205B8B834D}" type="slidenum">
              <a:rPr b="0" lang="zh-CN" sz="12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在自传里说，假如给我三天光明，我首先要长久地凝视我的老师。她的最后一本书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老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先后搜集写作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年，作为她对老师的深深感谢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BA73-BB58-470C-A189-B23F2D33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A84-4589-4483-AD69-A000CAE4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112-6CBD-4A2C-9BB9-6FAC46F1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E62-303E-4CF0-BEF2-17FDBFB3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0DA4-1314-4781-A96F-D4EF5E64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EA82-28C4-4BFF-88F2-1AD3AFDA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8D3A-9228-417B-A83A-832744D2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AE6E-5FD9-419D-B30A-CE5F4071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CB7E-FBBC-468A-A9A8-4A7A7120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4313-F7E2-4D8A-A8D6-7AF3158A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52E0-3D90-463B-88BE-5F72FC72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B39-3335-46A5-BC6D-C5384EC0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BD76-E29A-4BA0-9108-5E73B755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8A56-68A1-4BE5-9257-6D79F9DF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83C6-DB9A-4BB6-9E5F-C9AEE3B1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A945-199A-4A4E-9C2D-C87B89A5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90AB-48DF-4480-9FAE-43FBB232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B24F8-AE9F-40C8-835F-5B6A84A8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B7A8-4367-49AF-9276-63343201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A3715-4542-4B5E-839C-D577DE2E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83577-8D20-464A-97FC-51C197C2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C4D4-53C7-4707-AC8C-C752D517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0E3-5175-4867-BC1C-F4907D6E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5B64-5057-447E-908E-115000B1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7BDCA-2B4D-422E-B560-486E2252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E79F-E566-426B-BDDE-8D818F50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DB3E0-B11F-4446-920B-8ED9BA04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D26F9-63B7-44E3-8F35-EBE1E4CA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057FA-6EDC-45A1-8F0A-E6CE44CF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52DB-2E1F-44B3-9EFF-CAE3A533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A770A-403B-4FD6-A903-467D914E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05DEE-F2D7-4F68-AEFD-5CC9A69B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6723E-27C2-4319-AA22-87400D51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8D5-E299-4226-848A-594E5618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D53CD-7D1A-4926-B8EE-689835AA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7C231-6925-4095-9372-7DB5F1B8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A0260-BF9C-472E-A38B-388394E8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E1FDA-8368-4A75-BE5F-3ED48D5B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2B52B-FC32-43F2-AB75-5FE4395A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B9642-3AD3-44F0-88DC-92FBDBCD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5DD5F-EDCC-463C-A2B4-D8F80AC8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D8A1E-E6A6-42F7-8C7D-F8DC7CA5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A1437-1CCC-49DD-93CE-13A6219E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0AE4D-9A2E-4705-B1DF-07A48DB9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500-67D6-4ABE-AD2D-7625E7EE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4FC78-785A-4AAC-86B5-1482ECD9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B3C2B-E35C-4972-8542-A632B1C8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28724-CF52-4E05-9DF3-CFB33BAB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5B0F3-D0C1-40D0-B2E8-E71C7A7E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29E86-C2C3-4867-A210-83BBD78D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CA50E-2AD6-48E7-AF34-8FD06219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CBCB8-31E9-413F-B0F2-95B53BB8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C19EA-ADBC-4161-A213-F2DC3166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3E7B9-F2FA-4C42-B8B1-BD8230F9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BE0DB-00DF-44FB-A86E-3B9552EB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5C6-1F4B-4B05-A957-A72AE63D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5F354-0AEC-4EE9-9990-86E8F876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AD345-60F6-41BF-AE12-650FD48E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4BC83-3E07-4AC3-94F0-2826250B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029FD-C7EE-467F-BD49-F6BB69F2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B4618-A616-4DD6-8E5B-980714F0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CED9A-46D8-4398-8DE1-D0E8F7E1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CBE85-B2BD-4705-AC63-257D0573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72885-FAD0-4290-AD34-BC022130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83D24-B17B-4A16-A82C-EB6910BC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2ED9F-D4EF-41A0-B241-042F18D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D99-0191-4DF6-A59F-92A0612F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CB776-D0AE-4A68-BA7B-45183950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B5901-BED5-471C-B101-31EFEDE0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DEB5F-610E-4A54-84BC-6E610012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F4163-C301-4B1D-9F80-1E4ECECE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D8C75-92B0-43CC-B99D-1D711E60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C2A9C-3D29-448D-B192-6B1E9F19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9407C-4157-4E55-9670-C39E0655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FDBEE-864D-455B-BA14-0FC98233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D4333-59B8-4D49-BEEC-CB70639B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DE571-D94B-4D66-803D-3B815B5B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B18-4FEB-4AD9-A6B3-A437E5EB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79A5B-1770-420F-ADD2-7E4CEBF8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94649-7B15-4E7E-B4D5-C8B7FEE3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B9153-6E74-45A9-B5EF-D0A54D62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8E273-4792-433F-87F0-22D4D365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746BB-82CA-48D1-B222-D5741415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34C-76A5-4C7B-A052-25F2D7FE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1026-6FF3-4F44-B387-C5BA718295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7227-15A7-4A7D-8406-D4106A907B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3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4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5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87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8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54FE-D302-4332-8692-C073E5387E4F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F2E9-8FB5-4FEC-9C36-430A1B260A8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4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5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6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7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7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7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6CDC-A557-4D04-99BF-94D9A31B3F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5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6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823C-F1D4-4ADA-8D5A-43A14C7EFCD0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1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1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31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9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2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32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5A5B-4953-4974-AD2B-C145B7340BB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cjr.org.cn/zqdf/zhanghaidi/zhanghaidi.htm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2.jpeg"/><Relationship Id="rId5" Type="http://schemas.openxmlformats.org/officeDocument/2006/relationships/image" Target="../media/image18.jpeg"/><Relationship Id="rId6" Type="http://schemas.openxmlformats.org/officeDocument/2006/relationships/hyperlink" Target="http://www.cjr.org.cn/zqdf/zhanghaidi/zhanghaidi.htm" TargetMode="External"/><Relationship Id="rId7" Type="http://schemas.openxmlformats.org/officeDocument/2006/relationships/image" Target="../media/image24.jpeg"/><Relationship Id="rId8" Type="http://schemas.openxmlformats.org/officeDocument/2006/relationships/image" Target="../media/image19.png"/><Relationship Id="rId9" Type="http://schemas.openxmlformats.org/officeDocument/2006/relationships/image" Target="../media/image27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491540_2003122419114417945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2666880" y="342900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黑体"/>
              </a:rPr>
              <a:t>海伦</a:t>
            </a:r>
            <a:r>
              <a:rPr b="1" lang="en-US" sz="5400" spc="-1" strike="noStrike">
                <a:solidFill>
                  <a:srgbClr val="007a77"/>
                </a:solidFill>
                <a:latin typeface="Arial"/>
                <a:ea typeface="黑体"/>
              </a:rPr>
              <a:t>.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黑体"/>
              </a:rPr>
              <a:t>凯勒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8" name="WordArt 4"/>
          <p:cNvSpPr txBox="1"/>
          <p:nvPr/>
        </p:nvSpPr>
        <p:spPr>
          <a:xfrm>
            <a:off x="1619280" y="692280"/>
            <a:ext cx="5791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再塑生命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79" name="Picture 7" descr="2003-08-29-3"/>
          <p:cNvPicPr/>
          <p:nvPr/>
        </p:nvPicPr>
        <p:blipFill>
          <a:blip r:embed="rId2"/>
          <a:stretch/>
        </p:blipFill>
        <p:spPr>
          <a:xfrm>
            <a:off x="6443640" y="3068640"/>
            <a:ext cx="2252520" cy="3357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图片1"/>
          <p:cNvPicPr/>
          <p:nvPr/>
        </p:nvPicPr>
        <p:blipFill>
          <a:blip r:embed="rId1"/>
          <a:stretch/>
        </p:blipFill>
        <p:spPr>
          <a:xfrm>
            <a:off x="5003640" y="2492280"/>
            <a:ext cx="3816360" cy="40798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3"/>
          <p:cNvSpPr/>
          <p:nvPr/>
        </p:nvSpPr>
        <p:spPr>
          <a:xfrm>
            <a:off x="0" y="620640"/>
            <a:ext cx="5977080" cy="82512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初读课文，整体感知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179280" y="1484280"/>
            <a:ext cx="874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试用一句话概括，本文写了什么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250920" y="27082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4644"/>
                </a:solidFill>
                <a:latin typeface="Arial"/>
                <a:ea typeface="楷体_GB2312"/>
              </a:rPr>
              <a:t>文章记叙了莎莉文老师帮助并引导海伦凯勒认识具体事物，走进大自然，认识爱，从黑暗、痛苦走向光明、快乐、幸福的故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hellen1"/>
          <p:cNvPicPr/>
          <p:nvPr/>
        </p:nvPicPr>
        <p:blipFill>
          <a:blip r:embed="rId1"/>
          <a:stretch/>
        </p:blipFill>
        <p:spPr>
          <a:xfrm>
            <a:off x="5640480" y="3141720"/>
            <a:ext cx="3036960" cy="31687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179280" y="1773360"/>
            <a:ext cx="8713800" cy="6426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莎莉文老师来了之后，发生了哪些不寻常的事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468360" y="3284640"/>
            <a:ext cx="5040360" cy="520560"/>
          </a:xfrm>
          <a:prstGeom prst="rect">
            <a:avLst/>
          </a:prstGeom>
          <a:solidFill>
            <a:srgbClr val="ab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老师教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认识具体事物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539640" y="4437000"/>
            <a:ext cx="489600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老师教我走进大自然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324000" y="5516640"/>
            <a:ext cx="5111640" cy="520560"/>
          </a:xfrm>
          <a:prstGeom prst="rect">
            <a:avLst/>
          </a:prstGeom>
          <a:solidFill>
            <a:srgbClr val="d8f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老师教我认识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爱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0" y="620640"/>
            <a:ext cx="5977080" cy="82512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细致精读，感受师爱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179280" y="672840"/>
            <a:ext cx="876312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莎莉文老师是怎样教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认识具体事物的</a:t>
            </a:r>
            <a:r>
              <a:rPr b="0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179280" y="1893960"/>
            <a:ext cx="8496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第一次搂抱我（目的是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</a:rPr>
              <a:t>　　　　　　　　　　　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给我玩具，教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拼写洋娃娃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dol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目的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</a:rPr>
              <a:t>　　　　　　　　　　　　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4500720" y="1928880"/>
            <a:ext cx="360036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想让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我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感受到老师的关爱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214200" y="35528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教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拼写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（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in)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杯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p)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sit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181080" y="4632480"/>
            <a:ext cx="88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具体写使我领悟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这个词就是手上流过的清凉而又奇妙的东西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179280" y="57135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教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认识大量的具体事物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1436760" y="2955960"/>
            <a:ext cx="410364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是想让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我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对手指游戏产生兴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93250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莎莉文老师是如何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了解大自然的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826560" y="1528560"/>
            <a:ext cx="738036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让“我”坐在树上等候她吃午饭，突然天气变化，雷雨来临，在危急时刻老师来了，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楷体_GB2312"/>
              </a:rPr>
              <a:t>使“我”懂得大自然不总是对人微笑，给人仁慈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dc5900"/>
                </a:solidFill>
                <a:latin typeface="Arial"/>
                <a:ea typeface="楷体_GB2312"/>
              </a:rPr>
              <a:t>（莎莉文老师把“我”带到大自然中，运用“我”的嗅觉、触觉、以及学到的词汇，让“我”在头脑中形成特有的形象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7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长城粗隶书体"/>
                <a:ea typeface="黑体"/>
              </a:rPr>
              <a:t>莎莉文老师是如何逐步引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长城粗隶书体"/>
                <a:ea typeface="黑体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长城粗隶书体"/>
                <a:ea typeface="黑体"/>
              </a:rPr>
              <a:t>认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长城粗隶书体"/>
                <a:ea typeface="黑体"/>
              </a:rPr>
              <a:t>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长城粗隶书体"/>
                <a:ea typeface="黑体"/>
              </a:rPr>
              <a:t>的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394920" y="2276640"/>
            <a:ext cx="799308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文鼎中特广告体"/>
              </a:rPr>
              <a:t>　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莎莉文老师运用情感体验法，通过情感体验和对各种不同事物对比，使“我”从中去感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5" name="AutoShape 5"/>
          <p:cNvSpPr/>
          <p:nvPr/>
        </p:nvSpPr>
        <p:spPr>
          <a:xfrm>
            <a:off x="5435640" y="4033800"/>
            <a:ext cx="2014560" cy="225648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爱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763272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找出文中关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句子，并谈谈自己的感受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684360" y="4508640"/>
            <a:ext cx="7200720" cy="520560"/>
          </a:xfrm>
          <a:prstGeom prst="rect">
            <a:avLst/>
          </a:prstGeom>
          <a:solidFill>
            <a:srgbClr val="ffe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爱有点儿</a:t>
            </a:r>
            <a:r>
              <a:rPr b="1" lang="en-US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也不想玩了。</a:t>
            </a:r>
            <a:r>
              <a:rPr b="1" lang="zh-CN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有了爱，你就快乐，生活就变得美好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611280" y="2060640"/>
            <a:ext cx="7200720" cy="520560"/>
          </a:xfrm>
          <a:prstGeom prst="rect">
            <a:avLst/>
          </a:prstGeom>
          <a:solidFill>
            <a:srgbClr val="ffe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爱是花的香味吗？</a:t>
            </a:r>
            <a:r>
              <a:rPr b="1" lang="zh-CN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爱是给人带来愉快而美好感受的东西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611280" y="3213000"/>
            <a:ext cx="7273800" cy="520560"/>
          </a:xfrm>
          <a:prstGeom prst="rect">
            <a:avLst/>
          </a:prstGeom>
          <a:solidFill>
            <a:srgbClr val="ffe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爱是不是太阳？</a:t>
            </a:r>
            <a:r>
              <a:rPr b="1" lang="zh-CN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4644"/>
                </a:solidFill>
                <a:latin typeface="Arial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爱能给人光和热，能使万物茁壮成长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395280" y="1773360"/>
            <a:ext cx="828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◆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你认为沙莉文老师是一位怎样的老师？</a:t>
            </a:r>
            <a:endParaRPr b="0" lang="en-US" sz="35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395280" y="2708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是一个出色的教育艺术家，有爱心、耐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324000" y="4076640"/>
            <a:ext cx="7705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◆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你认为海伦是一位怎样的学生？</a:t>
            </a:r>
            <a:endParaRPr b="0" lang="en-US" sz="35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324000" y="5013360"/>
            <a:ext cx="77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4644"/>
                </a:solidFill>
                <a:latin typeface="楷体_GB2312"/>
                <a:ea typeface="楷体_GB2312"/>
              </a:rPr>
              <a:t>好学、聪明、坚毅、情感丰富、有强烈的求知欲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0" y="620640"/>
            <a:ext cx="5977080" cy="8251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深层研读，领悟主旨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028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章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塑生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题，有何含义？</a:t>
            </a:r>
            <a:r>
              <a:rPr b="0" lang="zh-CN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250920" y="33577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在莎莉文老师教育下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灵魂被唤醒，再次拥有了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光明、希望、快乐和自由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老师让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又回到自然，理解自然，教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懂得什么是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爱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从这个意义上说，莎莉文老师是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再塑生命的人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从而表达了作者对莎莉文老师无比的敬爱和感激。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324000" y="21337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从字面上看，是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重新塑造生命、重新获得生命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意思</a:t>
            </a:r>
            <a:r>
              <a:rPr b="0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。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文中是指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爱的光明照到了我的身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395280" y="2021040"/>
            <a:ext cx="8280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◆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海伦是个高度残疾的儿童，在莎莉文老师的引领下却创造出了生命的奇迹，从她们身上，你得到哪些人生的启示？</a:t>
            </a:r>
            <a:endParaRPr b="0" lang="en-US" sz="3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95280" y="3892680"/>
            <a:ext cx="84978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◆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平凡生活中并非只有一位“海伦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黑体"/>
              </a:rPr>
              <a:t>•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凯勒”，古今中外那些付出艰辛卓绝努力而成功的残疾人比比皆是，你能说出他们的名字和他们所谱写的动人故事吗？你知道他们成功的秘诀吗？</a:t>
            </a:r>
            <a:endParaRPr b="0" lang="en-US" sz="3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50920" y="868320"/>
            <a:ext cx="5976720" cy="8251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体验反思，感悟人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banner2"/>
          <p:cNvPicPr/>
          <p:nvPr/>
        </p:nvPicPr>
        <p:blipFill>
          <a:blip r:embed="rId1"/>
          <a:stretch/>
        </p:blipFill>
        <p:spPr>
          <a:xfrm>
            <a:off x="425520" y="1063800"/>
            <a:ext cx="2682720" cy="5105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42" name="Rectangle 3"/>
          <p:cNvSpPr/>
          <p:nvPr/>
        </p:nvSpPr>
        <p:spPr>
          <a:xfrm>
            <a:off x="3778200" y="749160"/>
            <a:ext cx="5257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贝多芬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德国伟大的作曲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26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岁时听觉衰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35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岁时完全耳聋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……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世界不给他欢乐  他却创造了欢乐给予世界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千手观音.mpg" descr=""/>
          <p:cNvPicPr/>
          <p:nvPr/>
        </p:nvPicPr>
        <p:blipFill>
          <a:blip r:embed="rId1"/>
          <a:stretch/>
        </p:blipFill>
        <p:spPr>
          <a:xfrm>
            <a:off x="34920" y="838080"/>
            <a:ext cx="9012240" cy="48945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5"/>
          <p:cNvSpPr/>
          <p:nvPr/>
        </p:nvSpPr>
        <p:spPr>
          <a:xfrm>
            <a:off x="2627280" y="59500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舞蹈：千手观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abing1"/>
          <p:cNvPicPr/>
          <p:nvPr/>
        </p:nvPicPr>
        <p:blipFill>
          <a:blip r:embed="rId1"/>
          <a:stretch/>
        </p:blipFill>
        <p:spPr>
          <a:xfrm>
            <a:off x="6296040" y="1071720"/>
            <a:ext cx="2666880" cy="3504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44" name="Rectangle 4"/>
          <p:cNvSpPr/>
          <p:nvPr/>
        </p:nvSpPr>
        <p:spPr>
          <a:xfrm>
            <a:off x="581040" y="1911240"/>
            <a:ext cx="5638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二十多岁时患眼疾双眼相继失明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…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二胡作品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二泉映月</a:t>
            </a: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获二十世纪华人经典音乐作品奖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657360" y="69228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阿炳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4724280" y="38098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以顽强的意志创作了长篇小说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钢铁是怎样炼成的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47" name="Picture 3" descr="奥斯特洛夫斯a"/>
          <p:cNvPicPr/>
          <p:nvPr/>
        </p:nvPicPr>
        <p:blipFill>
          <a:blip r:embed="rId1"/>
          <a:stretch/>
        </p:blipFill>
        <p:spPr>
          <a:xfrm>
            <a:off x="1258920" y="3716280"/>
            <a:ext cx="2643120" cy="2844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448" name="Picture 4" descr="7476"/>
          <p:cNvPicPr/>
          <p:nvPr/>
        </p:nvPicPr>
        <p:blipFill>
          <a:blip r:embed="rId2"/>
          <a:srcRect l="0" t="0" r="0" b="121"/>
          <a:stretch/>
        </p:blipFill>
        <p:spPr>
          <a:xfrm>
            <a:off x="6300720" y="692280"/>
            <a:ext cx="2386080" cy="2813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49" name="Rectangle 5"/>
          <p:cNvSpPr/>
          <p:nvPr/>
        </p:nvSpPr>
        <p:spPr>
          <a:xfrm>
            <a:off x="468360" y="404640"/>
            <a:ext cx="6553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奥斯特洛夫斯基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苏联作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25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岁全身瘫痪 双目失明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…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war20316"/>
          <p:cNvPicPr/>
          <p:nvPr/>
        </p:nvPicPr>
        <p:blipFill>
          <a:blip r:embed="rId1"/>
          <a:stretch/>
        </p:blipFill>
        <p:spPr>
          <a:xfrm>
            <a:off x="228600" y="1219320"/>
            <a:ext cx="3295800" cy="4876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51" name="Rectangle 3"/>
          <p:cNvSpPr/>
          <p:nvPr/>
        </p:nvSpPr>
        <p:spPr>
          <a:xfrm>
            <a:off x="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809880" y="1371600"/>
            <a:ext cx="5334120" cy="41158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美国政治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41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岁时因患脊髓灰质炎 下肢瘫痪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…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是美国历史上唯一蝉联四届的总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4067280" y="69228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Unicode MS"/>
                <a:ea typeface="黑体"/>
              </a:rPr>
              <a:t>富兰克林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·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罗斯福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张海迪2"/>
          <p:cNvPicPr/>
          <p:nvPr/>
        </p:nvPicPr>
        <p:blipFill>
          <a:blip r:embed="rId1"/>
          <a:stretch/>
        </p:blipFill>
        <p:spPr>
          <a:xfrm>
            <a:off x="4876920" y="3505320"/>
            <a:ext cx="3657600" cy="2819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55" name="Rectangle 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56" name="Picture 5" descr="“生命之歌”张海迪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620640"/>
            <a:ext cx="2286000" cy="280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57" name="Rectangle 6"/>
          <p:cNvSpPr/>
          <p:nvPr/>
        </p:nvSpPr>
        <p:spPr>
          <a:xfrm>
            <a:off x="3851280" y="1268280"/>
            <a:ext cx="456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岁时胸部以下完全失去知觉  高位截瘫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…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4335120" y="549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张海迪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685800" y="306864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自学掌握英语 、日语 、德语等语言，成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当代知名作家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翻译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WordArt 2"/>
          <p:cNvSpPr txBox="1"/>
          <p:nvPr/>
        </p:nvSpPr>
        <p:spPr>
          <a:xfrm>
            <a:off x="4648320" y="4648320"/>
            <a:ext cx="1143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华文中宋"/>
              </a:rPr>
              <a:t>命运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华文中宋"/>
              <a:ea typeface="华文中宋"/>
            </a:endParaRPr>
          </a:p>
        </p:txBody>
      </p:sp>
      <p:pic>
        <p:nvPicPr>
          <p:cNvPr id="461" name="Picture 3" descr="无标题"/>
          <p:cNvPicPr/>
          <p:nvPr/>
        </p:nvPicPr>
        <p:blipFill>
          <a:blip r:embed="rId3"/>
          <a:stretch/>
        </p:blipFill>
        <p:spPr>
          <a:xfrm>
            <a:off x="5580000" y="620640"/>
            <a:ext cx="1916280" cy="2298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2" name="Picture 4" descr="war20316"/>
          <p:cNvPicPr/>
          <p:nvPr/>
        </p:nvPicPr>
        <p:blipFill>
          <a:blip r:embed="rId4"/>
          <a:stretch/>
        </p:blipFill>
        <p:spPr>
          <a:xfrm>
            <a:off x="3851280" y="1125360"/>
            <a:ext cx="1854360" cy="2743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3" name="Picture 5" descr="banner2"/>
          <p:cNvPicPr/>
          <p:nvPr/>
        </p:nvPicPr>
        <p:blipFill>
          <a:blip r:embed="rId5"/>
          <a:stretch/>
        </p:blipFill>
        <p:spPr>
          <a:xfrm>
            <a:off x="611280" y="2637000"/>
            <a:ext cx="1711080" cy="3886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4" name="Picture 6" descr="“生命之歌”张海迪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484360" y="2276640"/>
            <a:ext cx="1559160" cy="2133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5" name="Picture 7" descr="abing1"/>
          <p:cNvPicPr/>
          <p:nvPr/>
        </p:nvPicPr>
        <p:blipFill>
          <a:blip r:embed="rId8"/>
          <a:stretch/>
        </p:blipFill>
        <p:spPr>
          <a:xfrm>
            <a:off x="609480" y="1295280"/>
            <a:ext cx="1737000" cy="2438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6" name="Picture 8" descr="hailun"/>
          <p:cNvPicPr/>
          <p:nvPr/>
        </p:nvPicPr>
        <p:blipFill>
          <a:blip r:embed="rId9"/>
          <a:stretch/>
        </p:blipFill>
        <p:spPr>
          <a:xfrm>
            <a:off x="7086600" y="1371600"/>
            <a:ext cx="2057400" cy="2362320"/>
          </a:xfrm>
          <a:prstGeom prst="rect">
            <a:avLst/>
          </a:prstGeom>
          <a:ln w="0">
            <a:noFill/>
          </a:ln>
        </p:spPr>
      </p:pic>
      <p:grpSp>
        <p:nvGrpSpPr>
          <p:cNvPr id="467" name="Group 9"/>
          <p:cNvGrpSpPr/>
          <p:nvPr/>
        </p:nvGrpSpPr>
        <p:grpSpPr>
          <a:xfrm>
            <a:off x="2438280" y="4686480"/>
            <a:ext cx="6459120" cy="1621800"/>
            <a:chOff x="2438280" y="4686480"/>
            <a:chExt cx="6459120" cy="1621800"/>
          </a:xfrm>
        </p:grpSpPr>
        <p:sp>
          <p:nvSpPr>
            <p:cNvPr id="468" name="WordArt 10"/>
            <p:cNvSpPr txBox="1"/>
            <p:nvPr/>
          </p:nvSpPr>
          <p:spPr>
            <a:xfrm>
              <a:off x="2438280" y="4686480"/>
              <a:ext cx="1731240" cy="102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108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99ff"/>
                  </a:solidFill>
                  <a:effectLst>
                    <a:outerShdw dist="17819" dir="2700000" blurRad="0" rotWithShape="0">
                      <a:srgbClr val="003399"/>
                    </a:outerShdw>
                  </a:effectLst>
                  <a:latin typeface="宋体"/>
                </a:rPr>
                <a:t>扼住</a:t>
              </a:r>
              <a:endParaRPr b="1" lang="en-US" sz="1800" spc="1" strike="noStrike">
                <a:ln w="0">
                  <a:noFill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003399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69" name="WordArt 11"/>
            <p:cNvSpPr txBox="1"/>
            <p:nvPr/>
          </p:nvSpPr>
          <p:spPr>
            <a:xfrm>
              <a:off x="6366960" y="5707800"/>
              <a:ext cx="2530440" cy="600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0099ff"/>
                  </a:solidFill>
                  <a:effectLst>
                    <a:outerShdw dist="17819" dir="2700000" blurRad="0" rotWithShape="0">
                      <a:srgbClr val="003399"/>
                    </a:outerShdw>
                  </a:effectLst>
                  <a:latin typeface="宋体"/>
                </a:rPr>
                <a:t>的咽喉</a:t>
              </a:r>
              <a:endParaRPr b="1" lang="en-US" sz="1800" spc="1" strike="noStrike">
                <a:ln w="0">
                  <a:noFill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003399"/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470" name="Picture 12" descr="奥斯特洛夫斯a"/>
          <p:cNvPicPr/>
          <p:nvPr/>
        </p:nvPicPr>
        <p:blipFill>
          <a:blip r:embed="rId10"/>
          <a:stretch/>
        </p:blipFill>
        <p:spPr>
          <a:xfrm>
            <a:off x="5940360" y="3284640"/>
            <a:ext cx="1828800" cy="228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763640" y="692280"/>
            <a:ext cx="5715000" cy="5646960"/>
            <a:chOff x="1763640" y="692280"/>
            <a:chExt cx="5715000" cy="5646960"/>
          </a:xfrm>
        </p:grpSpPr>
        <p:sp>
          <p:nvSpPr>
            <p:cNvPr id="472" name="Text Box 3"/>
            <p:cNvSpPr/>
            <p:nvPr/>
          </p:nvSpPr>
          <p:spPr>
            <a:xfrm>
              <a:off x="1839960" y="692280"/>
              <a:ext cx="56386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 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顽强的毅力可以征服世界上的任何一座高峰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c5900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28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荻更斯</a:t>
              </a:r>
              <a:r>
                <a:rPr b="1" lang="zh-CN" sz="2800" spc="-1" strike="noStrike">
                  <a:solidFill>
                    <a:srgbClr val="ff9999"/>
                  </a:solidFill>
                  <a:latin typeface="黑体"/>
                  <a:ea typeface="黑体"/>
                </a:rPr>
                <a:t>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3" name="Text Box 4"/>
            <p:cNvSpPr/>
            <p:nvPr/>
          </p:nvSpPr>
          <p:spPr>
            <a:xfrm>
              <a:off x="1839960" y="2444760"/>
              <a:ext cx="556272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苦难对于天才是一块垫脚石，对于能干的人是一笔财富，对于弱者是一个万丈深渊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       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28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巴尔扎克</a:t>
              </a:r>
              <a:r>
                <a:rPr b="1" lang="zh-CN" sz="2800" spc="-1" strike="noStrike">
                  <a:solidFill>
                    <a:srgbClr val="cc0066"/>
                  </a:solidFill>
                  <a:latin typeface="黑体"/>
                  <a:ea typeface="黑体"/>
                </a:rPr>
                <a:t>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黑体"/>
                  <a:ea typeface="黑体"/>
                </a:rPr>
                <a:t>             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4" name="Text Box 5"/>
            <p:cNvSpPr/>
            <p:nvPr/>
          </p:nvSpPr>
          <p:spPr>
            <a:xfrm>
              <a:off x="1763640" y="4743360"/>
              <a:ext cx="556272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  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顺境中的美德是自制，逆境中的美德是不屈不挠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c5900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28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培根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75" name="WordArt 6"/>
          <p:cNvSpPr txBox="1"/>
          <p:nvPr/>
        </p:nvSpPr>
        <p:spPr>
          <a:xfrm rot="5400000">
            <a:off x="-1638360" y="2259000"/>
            <a:ext cx="518184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ff"/>
                    </a:gs>
                  </a:gsLst>
                  <a:lin ang="16200000"/>
                </a:gradFill>
                <a:latin typeface="宋体"/>
              </a:rPr>
              <a:t>微笑面对挫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ff"/>
                  </a:gs>
                </a:gsLst>
                <a:lin ang="16200000"/>
              </a:gradFill>
              <a:latin typeface="宋体"/>
              <a:ea typeface="宋体"/>
            </a:endParaRPr>
          </a:p>
        </p:txBody>
      </p:sp>
      <p:sp>
        <p:nvSpPr>
          <p:cNvPr id="476" name="WordArt 7"/>
          <p:cNvSpPr txBox="1"/>
          <p:nvPr/>
        </p:nvSpPr>
        <p:spPr>
          <a:xfrm rot="5400000">
            <a:off x="5523840" y="2259000"/>
            <a:ext cx="5257800" cy="198108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ff"/>
                    </a:gs>
                  </a:gsLst>
                  <a:lin ang="16200000"/>
                </a:gradFill>
                <a:latin typeface="华文中宋"/>
              </a:rPr>
              <a:t>勇于开拓进取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ff"/>
                  </a:gs>
                </a:gsLst>
                <a:lin ang="16200000"/>
              </a:gradFill>
              <a:latin typeface="华文中宋"/>
              <a:ea typeface="华文中宋"/>
            </a:endParaRPr>
          </a:p>
        </p:txBody>
      </p:sp>
    </p:spTree>
  </p:cSld>
  <p:transition>
    <p:split dir="out" orient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1" descr="Helen Keller and Anne Sullivan"/>
          <p:cNvPicPr/>
          <p:nvPr/>
        </p:nvPicPr>
        <p:blipFill>
          <a:blip r:embed="rId1"/>
          <a:stretch/>
        </p:blipFill>
        <p:spPr>
          <a:xfrm>
            <a:off x="4932360" y="593640"/>
            <a:ext cx="4057560" cy="5715000"/>
          </a:xfrm>
          <a:prstGeom prst="rect">
            <a:avLst/>
          </a:prstGeom>
          <a:ln w="0">
            <a:noFill/>
          </a:ln>
        </p:spPr>
      </p:pic>
      <p:sp>
        <p:nvSpPr>
          <p:cNvPr id="478" name="WordArt 12"/>
          <p:cNvSpPr txBox="1"/>
          <p:nvPr/>
        </p:nvSpPr>
        <p:spPr>
          <a:xfrm>
            <a:off x="395280" y="549360"/>
            <a:ext cx="2881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课文小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611280" y="2205000"/>
            <a:ext cx="374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让我们在今后的学习和生活中学习这对了不起的师生，学会关爱他人，笑对挫折，让生命绽放更加绚丽的光彩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20090225215039262"/>
          <p:cNvPicPr/>
          <p:nvPr/>
        </p:nvPicPr>
        <p:blipFill>
          <a:blip r:embed="rId1"/>
          <a:stretch/>
        </p:blipFill>
        <p:spPr>
          <a:xfrm>
            <a:off x="34920" y="620640"/>
            <a:ext cx="9072720" cy="59277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838080" y="2349360"/>
            <a:ext cx="74678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握文章内容，感悟莎莉文老师深沉的爱和独到的教学方法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海伦凯勒的成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，体会作者热爱生活、积极对待生命的态度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悟作者思想感情，理解文章主题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2556000" y="836640"/>
            <a:ext cx="3811320" cy="86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Object 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24360" y="549360"/>
            <a:ext cx="4248000" cy="5904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" descr="BK149"/>
          <p:cNvPicPr/>
          <p:nvPr/>
        </p:nvPicPr>
        <p:blipFill>
          <a:blip r:embed="rId2"/>
          <a:stretch/>
        </p:blipFill>
        <p:spPr>
          <a:xfrm>
            <a:off x="4140360" y="549360"/>
            <a:ext cx="4319280" cy="304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K149"/>
          <p:cNvPicPr/>
          <p:nvPr/>
        </p:nvPicPr>
        <p:blipFill>
          <a:blip r:embed="rId3"/>
          <a:stretch/>
        </p:blipFill>
        <p:spPr>
          <a:xfrm>
            <a:off x="4211640" y="6237360"/>
            <a:ext cx="4248000" cy="304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K149"/>
          <p:cNvPicPr/>
          <p:nvPr/>
        </p:nvPicPr>
        <p:blipFill>
          <a:blip r:embed="rId4"/>
          <a:stretch/>
        </p:blipFill>
        <p:spPr>
          <a:xfrm>
            <a:off x="3924360" y="549360"/>
            <a:ext cx="431640" cy="5902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BK149"/>
          <p:cNvPicPr/>
          <p:nvPr/>
        </p:nvPicPr>
        <p:blipFill>
          <a:blip r:embed="rId5"/>
          <a:stretch/>
        </p:blipFill>
        <p:spPr>
          <a:xfrm>
            <a:off x="8172360" y="549360"/>
            <a:ext cx="304920" cy="590400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7"/>
          <p:cNvSpPr/>
          <p:nvPr/>
        </p:nvSpPr>
        <p:spPr>
          <a:xfrm>
            <a:off x="1403280" y="549360"/>
            <a:ext cx="86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黑体"/>
              </a:rPr>
              <a:t>海伦凯勒油画像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helen-keller"/>
          <p:cNvPicPr/>
          <p:nvPr/>
        </p:nvPicPr>
        <p:blipFill>
          <a:blip r:embed="rId1"/>
          <a:stretch/>
        </p:blipFill>
        <p:spPr>
          <a:xfrm>
            <a:off x="130320" y="692280"/>
            <a:ext cx="3217680" cy="58784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3348000" y="692280"/>
            <a:ext cx="53276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海伦</a:t>
            </a:r>
            <a:r>
              <a:rPr b="1" lang="en-US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凯勒（</a:t>
            </a:r>
            <a:r>
              <a:rPr b="1" lang="en-US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1880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～</a:t>
            </a:r>
            <a:r>
              <a:rPr b="1" lang="en-US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1968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3276720" y="1413000"/>
            <a:ext cx="5580000" cy="138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美国著名女作家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一岁半时突患急性脑充血病，连日的高烧夺去了她的视觉和听觉，从此，她坠入了一个黑暗而沉寂的世界，陷入了痛苦的深渊。</a:t>
            </a:r>
            <a:r>
              <a:rPr b="1" lang="en-US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1887</a:t>
            </a:r>
            <a:r>
              <a:rPr b="1" lang="zh-CN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年</a:t>
            </a:r>
            <a:r>
              <a:rPr b="1" lang="en-US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月</a:t>
            </a:r>
            <a:r>
              <a:rPr b="1" lang="en-US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日，对海伦来说是她一生中最重要的一天。这天，家里为她请来了一位教师</a:t>
            </a:r>
            <a:r>
              <a:rPr b="1" lang="en-US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安妮</a:t>
            </a:r>
            <a:r>
              <a:rPr b="1" lang="en-US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·</a:t>
            </a:r>
            <a:r>
              <a:rPr b="1" lang="zh-CN" sz="2400" spc="-1" strike="noStrike">
                <a:solidFill>
                  <a:srgbClr val="ffa7cb"/>
                </a:solidFill>
                <a:latin typeface="华文中宋"/>
                <a:ea typeface="华文中宋"/>
              </a:rPr>
              <a:t>莎莉文。安妮教会她写字、手语。然而，一个人在无声、无光的世界里，要想与他人进行有声语言的交流几乎不可能，但是，海伦克服了常人难以想象的艰难，夜以继日地刻苦学习，从未放弃努力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helen01.jpg (52187 bytes)"/>
          <p:cNvPicPr/>
          <p:nvPr/>
        </p:nvPicPr>
        <p:blipFill>
          <a:blip r:embed="rId1"/>
          <a:stretch/>
        </p:blipFill>
        <p:spPr>
          <a:xfrm>
            <a:off x="7364520" y="620640"/>
            <a:ext cx="1600200" cy="180036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5"/>
          <p:cNvSpPr/>
          <p:nvPr/>
        </p:nvSpPr>
        <p:spPr>
          <a:xfrm>
            <a:off x="468360" y="2565360"/>
            <a:ext cx="8424720" cy="211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好学、坚毅、敏察、极高的悟性以及丰富的情感是海伦的突出特点，她在心灵深处大睁着一双好奇的眼睛。她靠着自己不懈的努力，考进哈佛大学拉德克利夫女子学院。大学期间，在师长的鼓励下，她开始写作。在以优异成绩毕业后，她把自己的一生献给了盲人福利和教育事业，并在繁忙的工作中先后完成了</a:t>
            </a:r>
            <a:r>
              <a:rPr b="1" lang="en-US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14</a:t>
            </a:r>
            <a:r>
              <a:rPr b="1" lang="zh-CN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部具有世界影响的著作。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最著名的是其自传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假如给我三天光明</a:t>
            </a:r>
            <a:r>
              <a:rPr b="1" lang="en-US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海伦所创造的奇迹与她自身的努力密不可分，但她能走出心灵障碍，重塑生命，却不能不归功于她伟大的老师</a:t>
            </a:r>
            <a:r>
              <a:rPr b="1" lang="en-US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——</a:t>
            </a:r>
            <a:r>
              <a:rPr b="1" lang="zh-CN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安妮</a:t>
            </a:r>
            <a:r>
              <a:rPr b="1" lang="en-US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·</a:t>
            </a:r>
            <a:r>
              <a:rPr b="1" lang="zh-CN" sz="2400" spc="-1" strike="noStrike">
                <a:solidFill>
                  <a:srgbClr val="ccffff"/>
                </a:solidFill>
                <a:latin typeface="华文中宋"/>
                <a:ea typeface="华文中宋"/>
              </a:rPr>
              <a:t>莎莉文女士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96" name="Picture 7" descr="hellen3"/>
          <p:cNvPicPr/>
          <p:nvPr/>
        </p:nvPicPr>
        <p:blipFill>
          <a:blip r:embed="rId2"/>
          <a:stretch/>
        </p:blipFill>
        <p:spPr>
          <a:xfrm>
            <a:off x="2843280" y="620640"/>
            <a:ext cx="2031840" cy="1800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4797"/>
          <p:cNvPicPr/>
          <p:nvPr/>
        </p:nvPicPr>
        <p:blipFill>
          <a:blip r:embed="rId3"/>
          <a:stretch/>
        </p:blipFill>
        <p:spPr>
          <a:xfrm>
            <a:off x="5148360" y="620640"/>
            <a:ext cx="1820880" cy="1800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lc0001aa"/>
          <p:cNvPicPr/>
          <p:nvPr/>
        </p:nvPicPr>
        <p:blipFill>
          <a:blip r:embed="rId4"/>
          <a:stretch/>
        </p:blipFill>
        <p:spPr>
          <a:xfrm>
            <a:off x="611280" y="620640"/>
            <a:ext cx="157644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250920" y="620640"/>
            <a:ext cx="5976720" cy="82512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初读课文，整体感知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79280" y="1628640"/>
            <a:ext cx="874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用自己喜欢的方式读课文，找出把握不准的词，小组交流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01" name="Picture 5" descr="图片2"/>
          <p:cNvPicPr/>
          <p:nvPr/>
        </p:nvPicPr>
        <p:blipFill>
          <a:blip r:embed="rId1"/>
          <a:stretch/>
        </p:blipFill>
        <p:spPr>
          <a:xfrm>
            <a:off x="2411280" y="3141720"/>
            <a:ext cx="4932360" cy="326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4"/>
          <p:cNvSpPr/>
          <p:nvPr/>
        </p:nvSpPr>
        <p:spPr>
          <a:xfrm>
            <a:off x="250920" y="907920"/>
            <a:ext cx="838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搓捻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cuō  niǎn):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用手指搓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企盼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qǐ pàn):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盼望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繁衍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fán   yǎn):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逐渐增多或增广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迁徙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qiān  xǐ):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迁移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花团锦簇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jǐn  cù):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形容五彩缤纷、十分华丽的形象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 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油然而生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黑体"/>
              </a:rPr>
              <a:t>: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黑体"/>
              </a:rPr>
              <a:t>形容思想感情自然而然地产生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4"/>
          <p:cNvSpPr/>
          <p:nvPr/>
        </p:nvSpPr>
        <p:spPr>
          <a:xfrm>
            <a:off x="158760" y="1916280"/>
            <a:ext cx="898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美不胜收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美好的东西太多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一时接受不完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看不过来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)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繁花似锦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各种各样的花颜色鲜明华丽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风云突变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比喻变换动荡的局势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可名状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不能够用语言形容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名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说出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期期艾艾</a:t>
            </a:r>
            <a:r>
              <a:rPr b="1" lang="en-US" sz="36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形容口吃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9-23T01:24:24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d0000000000010243100207f6000400038000</vt:lpwstr>
  </property>
</Properties>
</file>